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88188" cy="9024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FC04-67F6-43FC-BC74-6867A6A9D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C262-DEC6-4918-9E1E-7B5E29FD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A38A-9C7B-46EA-9837-C7535A9FF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F2EA-EB0D-47A8-ACAF-F905C78F8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CB85-3E26-4546-8A30-9B0A4DE2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484B-3C6F-4B05-A82A-B62FEFCE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3424-3CD4-4823-80C8-E701E601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79AB-1259-4ED4-9ED0-45161FC8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2486-C7F2-4EEB-96D9-422706B6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9587-43B7-47B5-A3EB-4BE4F08D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E193-6FD0-4FC8-A213-AE394380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2A41-9CAC-4C53-A7DD-0A4871A1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8A38-3D50-4E3E-A6C4-B6B0531E7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6389640" cy="1447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5181840" cy="979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48320" y="2057400"/>
            <a:ext cx="9903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57200" y="3505320"/>
            <a:ext cx="8153280" cy="9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723888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6389640" cy="1498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22960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372520" cy="1663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04920" y="2057400"/>
            <a:ext cx="685800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8:29:12Z</dcterms:created>
  <dc:creator>Graham</dc:creator>
  <dc:description/>
  <dc:language>en-US</dc:language>
  <cp:lastModifiedBy>Graham</cp:lastModifiedBy>
  <dcterms:modified xsi:type="dcterms:W3CDTF">2012-10-01T00:25:34Z</dcterms:modified>
  <cp:revision>2</cp:revision>
  <dc:subject/>
  <dc:title>Slide 1</dc:title>
</cp:coreProperties>
</file>